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DB9-0EDC-4BAF-90FB-33A87FC0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F39-286F-43F8-B72A-74C2D3E8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A99-100F-46A4-9343-DB751BD6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83F-6706-4D24-A092-DF1FBB47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21D81-D5FC-4885-8664-5A46AD13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8920B-7FEC-4895-96ED-A60A8914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281B6-45C1-4EBA-9B10-93FA1E41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BC67F-0E65-4B16-836F-4EBDBA54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DBEED-0ED5-4A93-AB45-526167A8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D7D2B-015F-4BE5-9F88-F8C5875D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6E6B9-1227-43CD-98F2-6900DF6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64D-3A53-4B9F-96F3-6FBE7C84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499F5-9EC1-4DFC-BE22-4138A6B4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A0B69-AC68-4A50-AF6E-11A79E10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DD81D-C911-4209-937B-B6CA8CB4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6F3EF-745E-4867-A546-138047FC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E41E9-296E-49BC-88F7-008F0F37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4C6-93F6-4EAC-AC13-5074025E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333-A3D2-4E34-8CBB-60D36EB9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B53-FC02-4102-85AF-F6FFCF63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CCF-A242-4B39-8FFA-97C4CD5D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4FA-01A6-4B13-B0CF-3661898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549-50C6-4575-9A82-7CE86688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CA6-ECA4-4ABF-B643-8C5D038E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7552-FECD-4C32-8459-7F65772F6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2254-4187-493E-83A7-DF8E3F637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jawisko fizyczne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przemiana chemicz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Au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Barbara Macho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alan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190476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648320" y="4038480"/>
            <a:ext cx="4038480" cy="1981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84360" y="1484280"/>
            <a:ext cx="31906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jawiska fizycz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cesy, w których substancja chemiczna nie ulega przemianie w inną substancję chemiczn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zykłady zjawisk fizycznyc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c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miany stanów skupienia cia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miany kształtu cia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jawiska atmosferyczn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źwięk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9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ahoma"/>
              </a:rPr>
              <a:t>RUCH</a:t>
            </a:r>
            <a:br>
              <a:rPr sz="3200"/>
            </a:b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       Wodospad „Victoria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132732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UCH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Jazda samochod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6697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UCH</a:t>
            </a: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prawianie sport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87640" y="1484280"/>
            <a:ext cx="3344760" cy="226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27640" y="4005360"/>
            <a:ext cx="2195640" cy="261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706760" cy="25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780000" y="4005360"/>
            <a:ext cx="17157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ZMIANY STANÓW SKUPIENIA CIA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348000" y="5157720"/>
            <a:ext cx="25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97920" y="46530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RZEPNIĘC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348000" y="5589720"/>
            <a:ext cx="24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4040" y="558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PNIE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26920" y="1844640"/>
            <a:ext cx="223236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332000" y="2349360"/>
            <a:ext cx="180000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3520" y="25653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ROWA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72720" y="357336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KRAPLA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012000" y="2707920"/>
            <a:ext cx="12967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1844640"/>
            <a:ext cx="201636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78360" y="23637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LIMAC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40200" y="357336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SUBLIMAC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miana kształt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47640" y="1754280"/>
            <a:ext cx="5977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JAWISKA ATMOSFERYCZ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313080" cy="2168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360" y="4292640"/>
            <a:ext cx="3313080" cy="218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24000" y="1341360"/>
            <a:ext cx="1719360" cy="2544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219640" y="3933720"/>
            <a:ext cx="1819440" cy="2559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6520" y="292428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orza pola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67160" y="29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ęc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9080" y="530064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aćmie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łoń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2720" y="537372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yładowan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tmosferycz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zemiany (reakcje) chemicz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ocesy, w których substancja chemiczna zmieniła się w inną substancję chemiczn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ykłady reakcji chemiczny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Spalani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08:31:05Z</dcterms:created>
  <dc:creator>Pracownia_106</dc:creator>
  <dc:description/>
  <dc:language>en-US</dc:language>
  <cp:lastModifiedBy>Pracownia_106</cp:lastModifiedBy>
  <dcterms:modified xsi:type="dcterms:W3CDTF">2002-08-23T07:19:35Z</dcterms:modified>
  <cp:revision>3</cp:revision>
  <dc:subject/>
  <dc:title>pieski</dc:title>
</cp:coreProperties>
</file>